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5B2C-8E3A-428B-8984-C5E6A1BF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2D3F-5151-4528-BE15-390257C9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36E9-302C-49F1-B994-C5610632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6420-C870-4D49-A697-3AE7970E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2E8F-8AF6-44FF-AD1A-6054901B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7554-F218-4DBA-B8AF-BE067320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66FF-3B1D-41E9-89D9-00DE9554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0413-98C3-492F-91F1-89165746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21AC-853E-4F44-8517-1037BFB3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489A-E2FE-4D60-AB28-D0B7C61D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22CF-B438-4BAB-AB01-3F3CBEF9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0B4D-1CC9-4654-B8F6-312399DE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8EB0-0659-48A5-8D29-74D2C9AD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55C2-95D2-4BEA-BE26-4785A390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1629-6F4F-4B10-9D7C-74C553BF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0F0A-2932-40F2-98DA-328D2AB8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E08B-261A-465F-925C-E24D75D7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4E7A-9A66-4C6F-8C91-39CC2AC2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23D5-1B6A-48AF-AC5C-55C73B8F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D03-8DFD-4C61-8423-F1AC3BB8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C3F0-C014-450F-9BCC-F7DA3BB3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8B19-E88F-4C61-B53B-A0146EFF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582C-D691-4D84-84D6-FEF90CC8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F621-A3A7-4ED7-8F76-A51F49E3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6DAA-4096-463A-A683-5B0233D86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79FA-2C47-4ADA-AE49-82C5CB38B9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slpro.com/cgi-bin/aslpro/aslpro.cgi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Vocabulary Slideshow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95280" y="28195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LIDE your desk over adjacent to your partn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tch the picture provided with the CH 11 vocabulary that it symboli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b050"/>
                </a:solidFill>
                <a:uFillTx/>
                <a:latin typeface="Times New Roman"/>
              </a:rPr>
              <a:t>RETALIATE</a:t>
            </a: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– to take revenge</a:t>
            </a: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Times New Roman"/>
              </a:rPr>
              <a:t>verb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,  Latin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496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7029"/>
                </a:solidFill>
                <a:uFillTx/>
                <a:latin typeface="Times New Roman"/>
              </a:rPr>
              <a:t>BLATANT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– very obvious, unmistakable</a:t>
            </a:r>
            <a:br>
              <a:rPr sz="3200"/>
            </a:br>
            <a:r>
              <a:rPr b="1" lang="en-US" sz="3200" spc="-1" strike="noStrike">
                <a:solidFill>
                  <a:srgbClr val="ff7029"/>
                </a:solidFill>
                <a:latin typeface="Times New Roman"/>
              </a:rPr>
              <a:t>adjective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, Latin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403848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334120" cy="5486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2127960" y="380880"/>
            <a:ext cx="47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AU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very thin, skin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694040" cy="5486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3143160" cy="38098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"/>
          <p:cNvSpPr/>
          <p:nvPr/>
        </p:nvSpPr>
        <p:spPr>
          <a:xfrm>
            <a:off x="1670040" y="152280"/>
            <a:ext cx="538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ARB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mixed up, jumbl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the point of con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dog_cheating_cat_school_test_hg_clr"/>
          <p:cNvPicPr/>
          <p:nvPr/>
        </p:nvPicPr>
        <p:blipFill>
          <a:blip r:embed="rId1"/>
          <a:stretch/>
        </p:blipFill>
        <p:spPr>
          <a:xfrm>
            <a:off x="1981080" y="1447920"/>
            <a:ext cx="4648320" cy="4647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756000" y="533520"/>
            <a:ext cx="81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LAGIARIS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STEALING OTHERS’ ID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400800" cy="51688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762120" y="304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546120" y="6172200"/>
            <a:ext cx="76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K, SORRY FOR POOPING ON YOUR BED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517760" y="228600"/>
            <a:ext cx="57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QUAL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 guilty feeling, remo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400800" cy="52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221760" y="457200"/>
            <a:ext cx="87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LO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OVERLY SELF- CONFIDENT, BO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1447920" y="3504960"/>
            <a:ext cx="1295280" cy="759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BLIGHT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– something that harms, hurts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un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,  Old English</a:t>
            </a:r>
            <a:br>
              <a:rPr sz="3200"/>
            </a:b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/www.aslprhttp://www.aslpro.com/cgi-bin/aslpro/aslpro.cgio.com/cgi-bin/aslpro/aslpro.cgi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0" y="1752480"/>
            <a:ext cx="4572000" cy="4419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3"/>
          <a:stretch/>
        </p:blipFill>
        <p:spPr>
          <a:xfrm>
            <a:off x="4648320" y="1752480"/>
            <a:ext cx="4267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b050"/>
                </a:solidFill>
                <a:uFillTx/>
                <a:latin typeface="Times New Roman"/>
              </a:rPr>
              <a:t>CONTRIVE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– to think up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Times New Roman"/>
              </a:rPr>
              <a:t>verb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, Middle English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4100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7029"/>
                </a:solidFill>
                <a:uFillTx/>
                <a:latin typeface="Times New Roman"/>
              </a:rPr>
              <a:t>IMMACULATE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– spotless, super clean</a:t>
            </a:r>
            <a:br>
              <a:rPr sz="3200"/>
            </a:br>
            <a:r>
              <a:rPr b="1" lang="en-US" sz="3200" spc="-1" strike="noStrike">
                <a:solidFill>
                  <a:srgbClr val="ff7029"/>
                </a:solidFill>
                <a:latin typeface="Times New Roman"/>
              </a:rPr>
              <a:t>adjective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, Latin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01992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9:18:36Z</dcterms:created>
  <dc:creator>El Cajon Valley High School</dc:creator>
  <dc:description/>
  <dc:language>en-US</dc:language>
  <cp:lastModifiedBy>mcdx62</cp:lastModifiedBy>
  <dcterms:modified xsi:type="dcterms:W3CDTF">2012-04-16T01:34:45Z</dcterms:modified>
  <cp:revision>13</cp:revision>
  <dc:subject/>
  <dc:title>Vocabulary Slidesh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K3R6gWpIbPK-uq3VHH6oXMWJeIsnAMOXEE2hLfNW7Hc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RevisionId">
    <vt:lpwstr>11701334897530444926</vt:lpwstr>
  </property>
  <property fmtid="{D5CDD505-2E9C-101B-9397-08002B2CF9AE}" pid="6" name="Google.Documents.Tracking">
    <vt:lpwstr>false</vt:lpwstr>
  </property>
</Properties>
</file>